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19.xml" ContentType="application/vnd.openxmlformats-officedocument.presentationml.comments+xml"/>
  <Override PartName="/ppt/comments/comment23.xml" ContentType="application/vnd.openxmlformats-officedocument.presentationml.comments+xml"/>
  <Override PartName="/ppt/comments/comment37.xml" ContentType="application/vnd.openxmlformats-officedocument.presentationml.comments+xml"/>
  <Override PartName="/ppt/comments/comment35.xml" ContentType="application/vnd.openxmlformats-officedocument.presentationml.comments+xml"/>
  <Override PartName="/ppt/comments/comment3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ang Dong" initials="PD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5-04-24T09:22:52.912000000" idx="1">
    <p:pos x="5649" y="2223"/>
    <p:text>适当把文本框加宽，让一句话尽量在一行内出现</p:text>
  </p:cm>
</p:cmLst>
</file>

<file path=ppt/comments/comment23.xml><?xml version="1.0" encoding="utf-8"?>
<p:cmLst xmlns:p="http://schemas.openxmlformats.org/presentationml/2006/main">
  <p:cm authorId="0" dt="2015-04-24T09:23:39.286000000" idx="2">
    <p:pos x="5346" y="2681"/>
    <p:text>这种情况下，尽量把术后护理另起一页</p:text>
  </p:cm>
</p:cmLst>
</file>

<file path=ppt/comments/comment35.xml><?xml version="1.0" encoding="utf-8"?>
<p:cmLst xmlns:p="http://schemas.openxmlformats.org/presentationml/2006/main">
  <p:cm authorId="0" dt="2015-04-24T09:25:10.281000000" idx="3">
    <p:pos x="1241" y="886"/>
    <p:text>删除编号</p:text>
  </p:cm>
</p:cmLst>
</file>

<file path=ppt/comments/comment36.xml><?xml version="1.0" encoding="utf-8"?>
<p:cmLst xmlns:p="http://schemas.openxmlformats.org/presentationml/2006/main">
  <p:cm authorId="0" dt="2015-04-24T09:25:45.776000000" idx="4">
    <p:pos x="1137" y="886"/>
    <p:text>删除编号</p:text>
  </p:cm>
</p:cmLst>
</file>

<file path=ppt/comments/comment37.xml><?xml version="1.0" encoding="utf-8"?>
<p:cmLst xmlns:p="http://schemas.openxmlformats.org/presentationml/2006/main">
  <p:cm authorId="0" dt="2015-04-24T09:25:29.547000000" idx="5">
    <p:pos x="1241" y="886"/>
    <p:text>删除编号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E68B-EB52-4DC5-94F4-6083F0BC57E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A61A-53CF-4B5D-8D58-FA0F0C601FE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4946-59AF-4F10-AF39-08D559DDE98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6BEA-E444-44BA-A2CE-A3B5539EAF5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D46E-2971-428E-A3EA-708515AD252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9904-9BC5-4F2F-993C-FA2FFA0E16D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DF01-A300-4541-AFDC-D9BC7494D1B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B64F-AB84-4892-848C-79FCDB5E8E3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7CC7-85CD-4D8F-92C0-0BBFCA072ED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1878-D270-4DA1-A787-09FF23F6064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D79B-3CFF-46BE-82F6-E00799A6071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7A38-92F3-4D3A-AFED-0C73F4D7D66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F5E5-130A-4DEB-9C3A-8E11915AA5B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4774-7B14-40D6-9D24-9B7640A7F16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227C-E705-4EFE-8768-178C17452D8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43BE-0B8C-45F9-AC40-C86A4A84A50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9972-AE2C-4371-ABBF-50E468E8714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1FEF2-18F4-4E7A-A3AB-C99766DBDF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E34BB-018D-4AA1-B97A-F4032931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B59D-9684-4B95-8E1E-7674FE43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E1FE-4A4C-4C02-B711-F4B6DF4294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3726-3267-4D92-BA6D-3F69C6C7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BB3A6-AB5A-4920-AAAE-60F25353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590C5-E999-4E8A-AB6D-A0A3E759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EA8FA-0317-4F70-A618-1EDA90135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E4FB1-7E99-410D-AADC-E3204FF5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F9A8-818B-4843-8B85-3524E6AC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09886-69AC-4CAD-BAED-27F59424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09876-B65E-42F0-9626-890CC317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2722-4E41-4ED6-866B-6A3E202646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6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7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房疾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热敷、药物外敷或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温和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抗生素，高热者给予物理或药物降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切开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通畅，注意观察引流液的颜色、性质和量的变化，及时更换浸湿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乳头凹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养成良好哺乳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发现右乳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右乳房外上方可见一个局部皮肤凹陷，右侧乳头略高于左侧乳头。右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部位可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×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不易推动，与乳房皮肤无粘连，无乳头溢液。右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×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，表面光滑，可活动，质地较硬。左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右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×1.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肿块影，边缘有细小毛刺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：浸润性低分化导管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瘦、乏力、贫血、发热等恶病质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早期发现乳腺癌最有效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确定肿块性质最可靠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发病的相关因素、临床表现、治疗原则和预防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乳腺癌发病的相关因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乳腺囊性增生症的病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房疾病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、多疗程、联合化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于保留乳房的乳腺癌手术后患者更是重要的治疗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分泌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乳腺癌，在经历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疗程的术前化疗后，肿块明显缩小，现拟行右乳腺癌改良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术后患侧上肢活动受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加压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引流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脱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1196640"/>
            <a:ext cx="41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范围关节活动包括手臂摇摆运动、爬墙运动、划圈运动、滑轮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92440" cy="4545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265720" y="5886360"/>
            <a:ext cx="2817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上臂全范围关节活动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视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是乳腺实质的良性增生性疾病，多见于中年女性。本病与卵巢功能失调引起的激素分泌紊乱有关，造成乳腺实质增生过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限性乳腺囊性增生症患者，应在月经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内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部病灶有恶性病变可能时，应尽早手术切除肿块并做病理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腺体增生及雌激素水平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用宽松胸罩托起乳房，以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观察病情变化，定期进行乳房自我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主要为乳汁淤积和细菌入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以乳房局部红肿热痛为主。随着炎症发展，疼痛变为搏动性，后期炎症病灶可发展为乳房脓肿。患者可有全身感染中毒表现，常伴有患侧腋窝淋巴结肿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控制感染，排空乳汁，脓肿形成后应切开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减轻疼痛，降温和控制感染。做好脓肿切开引流护理。预防的关键是纠正乳头凹陷，养成良好哺乳习惯，并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 病因不明，相关因素有内分泌、饮食、遗传、环境和生活方式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 早期表现为单发乳房肿块，无痛、质硬、活动度差、边界不清。可有乳房外形改变。淋巴转移常导致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术前应关注患者的心理反应。术后注意观察伤口及引流情况，及时发现出血、患侧上肢水肿、皮瓣下积液、皮瓣坏死等并发症，加强患侧上肢功能锻炼，恢复患者的自理能力。另外，应指导健康女性以及患者进行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内分泌失调引起乳腺实质过度增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乳房周期性胀痛和乳房肿块为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解释说明，消除患者心理顾虑。减轻乳房胀痛。遵医嘱服用药物。定期检查和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  ：乳房胀痛，有压痛性肿块，常伴有患侧腋窝淋巴结肿大和触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：寒战、高热、脉搏加快、食欲下降等全身感染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哺乳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过小或凹陷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汁过多或婴儿吸乳过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烦躁、焦虑，并有挫败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空乳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脓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房炎症、肿胀、脓肿切开引流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或细菌毒素进入血液循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围产期乳房保健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52:08Z</dcterms:modified>
  <cp:revision>97</cp:revision>
  <dc:subject/>
  <dc:title>内科护理学</dc:title>
</cp:coreProperties>
</file>